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CFB-C070-4783-AD45-A649A20B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B01-6C48-4D65-84F9-7CD2F2C5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7EC0-082E-4467-81C7-E614E012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0B1-9646-4BF1-A15D-AFF90506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3B8-7DF4-4839-B5DD-C17445CC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033-4034-4785-8877-54CEE263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148-556D-449C-8168-A1CB782C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8F2-75E6-48BB-B923-2DBF6285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476-3527-4BD5-9045-1346C1B3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645-4161-4F90-A1C6-247DE59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9C1-91EE-4B87-96E3-136A520F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129F-2599-4A15-B82D-2B5A8F90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420C-76E9-45E8-8EAC-FD5D83F28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8560" y="1646280"/>
            <a:ext cx="816768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6T18:06:20Z</dcterms:created>
  <dc:creator>Kevin and Ginger</dc:creator>
  <dc:description/>
  <dc:language>en-US</dc:language>
  <cp:lastModifiedBy>Kevin and Ginger</cp:lastModifiedBy>
  <dcterms:modified xsi:type="dcterms:W3CDTF">1999-09-06T18:07:06Z</dcterms:modified>
  <cp:revision>1</cp:revision>
  <dc:subject/>
  <dc:title>No Slide Title</dc:title>
</cp:coreProperties>
</file>