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3BFE-FE83-43D4-A916-BF13B8DCF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3833-A857-4FA7-B433-0A8C5A9EE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C6A2-33CB-434E-A51C-00F215B22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244B-4BFC-4227-BA8C-4A02309D1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8872-8455-4DEF-ABB9-342D8EC9D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CB29-808B-44FB-A3F0-BB5A58FCF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812E-2600-46E3-AD5A-E8CCF4986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57D6-1D1A-49D1-BEDC-D32F11B70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2471-DB61-4322-85DD-5F306F949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8465-E9AB-46AC-B245-1ED896F2E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864E-44F8-490C-8A04-6247B82C9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C37-8E7C-4D9D-A3B3-2104F67B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c4c4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B9A6-9320-40CB-9B42-3206EE512E36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5460840" y="6248520"/>
            <a:ext cx="2921040" cy="59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The State of the Art in </a:t>
            </a:r>
            <a:br>
              <a:rPr sz="3600"/>
            </a:b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Supporting “Big Data”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c90f2e"/>
                </a:solidFill>
                <a:latin typeface="Trebuchet MS"/>
              </a:rPr>
              <a:t>by</a:t>
            </a:r>
            <a:r>
              <a:rPr b="1" lang="en-US" sz="3600" spc="-1" strike="noStrike">
                <a:solidFill>
                  <a:srgbClr val="c90f2e"/>
                </a:solidFill>
                <a:latin typeface="Trebuchet MS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90f2e"/>
                </a:solidFill>
                <a:latin typeface="Trebuchet MS"/>
              </a:rPr>
              <a:t>Michael Stonebraker</a:t>
            </a:r>
            <a:br>
              <a:rPr sz="3600"/>
            </a:br>
            <a:br>
              <a:rPr sz="3600"/>
            </a:br>
            <a:br>
              <a:rPr sz="3600"/>
            </a:br>
            <a:endParaRPr b="1" lang="en-US" sz="2800" spc="-1" strike="noStrike">
              <a:solidFill>
                <a:srgbClr val="c90f2e"/>
              </a:solidFill>
              <a:latin typeface="Trebuchet MS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209680" y="5276880"/>
            <a:ext cx="48006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9C9-28F9-4394-B331-76D0940E1F5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DBMS Security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Works well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i.e. I have never heard of the DBMS screwing up in this area.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D0E2-D480-4107-BC8A-0EC3DA4C39F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Encryption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an be entrusted to the DBM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ppropriate when there are many clients sharing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Don’t want the encryption key to be on 500 desktop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an be entrusted to the client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ppropriate when there is personal (single user)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See Nickolai’s talk this afternoon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FA3E-65E1-4AB1-926C-DFD5CE348573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Leak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insiders (think Edward Snowdon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r unguarded desktops (my password on a post-it note on my PC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possible way for the DBMS to prevent thi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9F8-C6AD-4511-B7A1-CB99690F124D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However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DBMS can write a “command log” (everything everybody did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nables after-the-fact auditing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Sniff the log for suspicious behavior (unusual activity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Would be a nice DBMS add-on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But it is a human management problem to actually use it!!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5D80-BBFC-4786-9B7E-A904D95EFCC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What is “Big Data”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lume (I have too much data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elocity (Its coming at me too fast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oo much </a:t>
            </a:r>
            <a:r>
              <a:rPr b="0" lang="en-US" sz="2400" spc="-1" strike="noStrike">
                <a:solidFill>
                  <a:srgbClr val="c90f2e"/>
                </a:solidFill>
                <a:latin typeface="Trebuchet MS"/>
              </a:rPr>
              <a:t>V</a:t>
            </a: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ariety (Its coming at me from too many places in too many formats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DD72-7302-4295-A1D3-56A0A4B0931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 -- 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Data Warehouse World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(structured data)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ature (and large) commercial market with several well-regarded vendor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 know of a couple dozen of these in production use on petabytes of data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Zynga, E-Bay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That is about 20 Mbytes for every person in the US!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reason why this technology won’t scale as customers want larger installation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xpect data warehouses to get larger by 1-2 orders of magnitude over the rest of this decade. 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6C89-CED4-4DD4-BF6C-89F4C561CCE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 -- 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Hadoop/Hive World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(semi-structured data)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 know over another 20 or so petascale Hadoop installation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Facebook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 reason this technology won’t continue to scale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And probably converge with the data warehouse worl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91D-27C6-4499-BE8A-F17F56CBDC37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uch Data –-</a:t>
            </a:r>
            <a:br>
              <a:rPr sz="3200"/>
            </a:b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he Data Scientist World</a:t>
            </a:r>
            <a:br>
              <a:rPr sz="3200"/>
            </a:b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Predictive Modelling, data mining, data clustering, recommendation engines, ….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Complex analytics – not in SQL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Not well understoo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World of research, start-ups, …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y prediction: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s the world moves from simple analytics to complex analytics, the server side technology will mature to meet the need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58AC-EBEB-41E5-A04B-CA937E758DC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Fas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Often a legacy problem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Rise in stock market volume breaking the legacy real-time infrastructure of investment bank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solvable by throwing money/hardware at the problem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Usually amenable to aggregation in the sensor network to knock down the velocity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.g. car insurance sensor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9016-D7F4-499D-97B8-A507BD3BF52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Fast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Some problems yet to be solved (query languages, integration of storage with “on-the-wire processing)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But I see no showstoppers here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Technology is capable of handling “the firehose” that will result from “the internet of things” 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D56-3164-4094-BD83-D87C0EC81F4E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any Place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Mature technology for integrating 20 data source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Extract-Transform and Load (ETL) vendors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But how to integrate 10,000?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Novartis has 10,000 bench chemists and biologists, each with an (independently constructed) data set of experimental result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Company wants to integrate these 10,000 data sources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And add additional ones from the public web</a:t>
            </a: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381880" y="647712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4432-C163-460F-8FEF-E764C989589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f2e"/>
                </a:solidFill>
                <a:latin typeface="Trebuchet MS"/>
              </a:rPr>
              <a:t>Too Many Places</a:t>
            </a:r>
            <a:endParaRPr b="1" lang="en-US" sz="3200" spc="-1" strike="noStrike">
              <a:solidFill>
                <a:srgbClr val="c90f2e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Research problem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c4c4c"/>
              </a:buClr>
              <a:buSzPct val="60000"/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  <a:ea typeface="ＭＳ Ｐゴシック"/>
              </a:rPr>
              <a:t>Killing most CIO’s that I know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Very active area of investigation 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Startups in this space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rebuchet MS"/>
              </a:rPr>
              <a:t>If there is any achilles heel in big data, this is it!</a:t>
            </a:r>
            <a:endParaRPr b="0" lang="en-US" sz="2400" spc="-1" strike="noStrike">
              <a:solidFill>
                <a:srgbClr val="4c4c4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5:08:45Z</dcterms:created>
  <dc:creator>Samuel Madden</dc:creator>
  <dc:description/>
  <dc:language>en-US</dc:language>
  <cp:lastModifiedBy>Michael Stonebraker</cp:lastModifiedBy>
  <cp:lastPrinted>2011-11-09T23:04:23Z</cp:lastPrinted>
  <dcterms:modified xsi:type="dcterms:W3CDTF">2014-03-01T17:23:28Z</dcterms:modified>
  <cp:revision>252</cp:revision>
  <dc:subject/>
  <dc:title>PowerPoint Presentation</dc:title>
</cp:coreProperties>
</file>