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C39B-2F4A-44B8-ABD4-DD3A2BFBF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79E6-EF7D-4900-BDB6-5AD8D8D73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E4AD-4B85-4ADE-A320-A3E798B93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E44E-E6BE-48F1-86D6-438DCD067B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BBFE-3E8B-4AF4-A54E-DDB7C0FAF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91FA-A8B8-4B53-9466-08175470C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333B-840E-4C03-B3E2-0CF124710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FAA4-6A35-44F6-BF91-F2B7F89B9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095B-F613-432C-B275-D7F47F9CF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0DFC-64AC-4C7A-86BE-FE50D0146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4DA7-BC0F-4B39-8CC3-5D67A902A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C1EB-00D9-4D79-855E-2CAAEA1C3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4767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2E3C-53FF-430E-9689-96FFC0F36919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5460840" y="6248520"/>
            <a:ext cx="292104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90f2e"/>
                </a:solidFill>
                <a:latin typeface="Trebuchet MS"/>
              </a:rPr>
              <a:t>The State of the Art in </a:t>
            </a:r>
            <a:br>
              <a:rPr sz="3600"/>
            </a:br>
            <a:r>
              <a:rPr b="1" lang="en-US" sz="3600" spc="-1" strike="noStrike">
                <a:solidFill>
                  <a:srgbClr val="c90f2e"/>
                </a:solidFill>
                <a:latin typeface="Trebuchet MS"/>
              </a:rPr>
              <a:t>Supporting “Big Data”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c90f2e"/>
                </a:solidFill>
                <a:latin typeface="Trebuchet MS"/>
              </a:rPr>
              <a:t>by</a:t>
            </a:r>
            <a:r>
              <a:rPr b="1" lang="en-US" sz="3600" spc="-1" strike="noStrike">
                <a:solidFill>
                  <a:srgbClr val="c90f2e"/>
                </a:solidFill>
                <a:latin typeface="Trebuchet MS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c90f2e"/>
                </a:solidFill>
                <a:latin typeface="Trebuchet MS"/>
              </a:rPr>
              <a:t>Michael Stonebraker</a:t>
            </a:r>
            <a:br>
              <a:rPr sz="3600"/>
            </a:br>
            <a:br>
              <a:rPr sz="3600"/>
            </a:br>
            <a:br>
              <a:rPr sz="3600"/>
            </a:br>
            <a:endParaRPr b="1" lang="en-US" sz="2800" spc="-1" strike="noStrike">
              <a:solidFill>
                <a:srgbClr val="c90f2e"/>
              </a:solidFill>
              <a:latin typeface="Trebuchet MS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209680" y="5276880"/>
            <a:ext cx="4800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D5C-6EDC-4171-BA50-352AD3D260F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DBMS Security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Works well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i.e. I have never heard of the DBMS screwing up in this area.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1A89-6573-455C-8205-47BCA29F657A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Encryption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Can be entrusted to the DBM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Appropriate when there are many clients sharing data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Don’t want the encryption key to be on 500 desktop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Can be entrusted to the client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Appropriate when there is personal (single user) data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See Nickolai’s talk this afternoon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20E-6AC6-4AB6-8F35-C544373EE654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Leaks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Usually insiders (think Edward Snowdon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Or unguarded desktops (my password on a post-it note on my PC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No possible way for the DBMS to prevent thi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30EE-D7CF-4576-86D3-DDBAEBE284CD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However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DBMS can write a “command log” (everything everybody did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nables after-the-fact auditing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Sniff the log for suspicious behavior (unusual activity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Would be a nice DBMS add-on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But it is a human management problem to actually use it!!!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E0F7-8E82-4309-B5C3-FEF1003CC6BD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What is “Big Data”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Too much </a:t>
            </a:r>
            <a:r>
              <a:rPr b="0" lang="en-US" sz="2400" spc="-1" strike="noStrike">
                <a:solidFill>
                  <a:srgbClr val="c90f2e"/>
                </a:solidFill>
                <a:latin typeface="Trebuchet MS"/>
              </a:rPr>
              <a:t>V</a:t>
            </a: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olume (I have too much data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Too much </a:t>
            </a:r>
            <a:r>
              <a:rPr b="0" lang="en-US" sz="2400" spc="-1" strike="noStrike">
                <a:solidFill>
                  <a:srgbClr val="c90f2e"/>
                </a:solidFill>
                <a:latin typeface="Trebuchet MS"/>
              </a:rPr>
              <a:t>V</a:t>
            </a: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elocity (Its coming at me too fast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Too much </a:t>
            </a:r>
            <a:r>
              <a:rPr b="0" lang="en-US" sz="2400" spc="-1" strike="noStrike">
                <a:solidFill>
                  <a:srgbClr val="c90f2e"/>
                </a:solidFill>
                <a:latin typeface="Trebuchet MS"/>
              </a:rPr>
              <a:t>V</a:t>
            </a: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ariety (Its coming at me from too many places in too many formats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3670-F599-486B-ABA9-AB848B921450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uch Data  -- 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he Data Warehouse World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(structured data)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Mature (and large) commercial market with several well-regarded vendor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I know of a couple dozen of these in production use on petabytes of data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.g. Zynga, E-Bay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That is about 20 Mbytes for every person in the US!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No reason why this technology won’t scale as customers want larger installation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xpect data warehouses to get larger by 1-2 orders of magnitude over the rest of this decade. 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51C7-25F2-4F08-928A-A31552DC6DE0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uch Data  -- 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he Hadoop/Hive World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(semi-structured data)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I know over another 20 or so petascale Hadoop installation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.g. Facebook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No reason this technology won’t continue to scale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And probably converge with the data warehouse world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1CD6-C107-4CE1-984F-373FC079819E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uch Data –-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he Data Scientist World</a:t>
            </a:r>
            <a:br>
              <a:rPr sz="3200"/>
            </a:b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Predictive Modelling, data mining, data clustering, recommendation engines, ….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Complex analytics – not in SQL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Not well understood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World of research, start-ups, …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My prediction: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As the world moves from simple analytics to complex analytics, the server side technology will mature to meet the need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FB34-2863-4FDF-B0D4-10E79079BE3C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Fast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Often a legacy problem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Rise in stock market volume breaking the legacy real-time infrastructure of investment banks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Usually solvable by throwing money/hardware at the problem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Usually amenable to aggregation in the sensor network to knock down the velocity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.g. car insurance sensors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5B76-409A-4FC4-B2C6-A8E10F41ED3C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Fast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Some problems yet to be solved (query languages, integration of storage with “on-the-wire processing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But I see no showstoppers here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Technology is capable of handling “the firehose” that will result from “the internet of things” 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314-CEEA-4AB8-9BE8-A615122B6452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any Places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Mature technology for integrating 20 data source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xtract-Transform and Load (ETL) vendor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But how to integrate 10,000?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Novartis has 10,000 bench chemists and biologists, each with an (independently constructed) data set of experimental results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Company wants to integrate these 10,000 data sources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And add additional ones from the public web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7B6-498E-4563-8EA6-14567DFB6EB7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any Places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Research problem!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Killing most CIO’s that I know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Very active area of investigation 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Startups in this space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If there is any achilles heel in big data, this is it!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5:08:45Z</dcterms:created>
  <dc:creator>Samuel Madden</dc:creator>
  <dc:description/>
  <dc:language>en-US</dc:language>
  <cp:lastModifiedBy>Michael Stonebraker</cp:lastModifiedBy>
  <cp:lastPrinted>2011-11-09T23:04:23Z</cp:lastPrinted>
  <dcterms:modified xsi:type="dcterms:W3CDTF">2014-03-01T17:23:28Z</dcterms:modified>
  <cp:revision>252</cp:revision>
  <dc:subject/>
  <dc:title>PowerPoint Presentation</dc:title>
</cp:coreProperties>
</file>