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F92-4D4B-487A-8D54-D85E887C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0AE-732A-4DBD-8945-F4BC3D0C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C4B-A3B9-4A03-B71D-4A592D3C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443-3847-4D22-AED1-A06B6147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C9A61-B864-4AE7-BAE7-A6403D72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381C2-1ADB-45C0-9730-66BEA630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53134-C0D8-4F35-AD5B-DAEC3B87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0BB63-22BB-49C8-BC3A-29392E69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077BD-8399-43DC-A803-41D9321A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88668-93C6-4685-B8AA-A57073A3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9D0DD-3CC6-4F05-AD8B-9B4AD173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D50-37F0-4AB4-BCBD-4F129618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BF5A5-3F2F-419F-AECC-FAF58D83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F0DE1-8F4B-4FC5-AF15-54933ED4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2C11E-A483-4EEE-8EC0-9D1780D7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75D10-FC23-420C-98C0-D0A4D5FB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6E875-5730-4D59-9A07-9305D3C4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BCE-75A3-47BC-A6D4-965D148F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CAD-2D0E-42AA-B8B6-D9FCEFEE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DFE-FFB4-404F-9E36-78EF7BFF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AD6-6657-4765-9724-72B15E2F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E30-CE85-4DF0-AD65-1D797327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403-4F5A-4777-BB0D-81C7C9B9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AE4-1246-42CC-A4E4-465CDB8E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4804-440A-4B84-901C-C3C9A5724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6AFC-5583-4DB4-B1D6-0BCF59C8D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ther” you like it or not!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plan for world domin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. Mori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l Institute of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iday, January 13,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A663F-14D0-499E-8C95-75D5712E74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ject Backgrou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ious attempts at world do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l satellite launched, 19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t down by S.P.I.E.S. within hou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cess of Khajerkistan kidnapped, 197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cued by S.P.I.E.S. within hou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ease of radioactive spiders in NYC, 19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ented by S.P.I.E.S. just in the nick of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ney Spears’ career, 1999-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iled by her own lack of talent,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2C8-DB40-44BA-8812-44116157B64A}" type="slidenum">
              <a:t>2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vil 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chase resorts in tropical 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Evil Weather Machine 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 weather all over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rts warm, sun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 of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wy or ra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801-E314-48A4-BF42-BAFFA0D4F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Reso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ny sk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ear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 and 2- bedroom hu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idential su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ental breakf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REASONABLE PRICE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2700360"/>
            <a:ext cx="4038480" cy="25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27D-2334-48E1-86D5-D8FBCA59BE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vil 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chase resorts in tropical 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Evil Weather Machine 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 weather all over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rts warm, sun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 of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wy or ra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245-70EA-4EC9-8FD4-12C11A8640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vil Weather Machine ™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s nice weather to Evil Res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ngs nasty weather everywhere el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forces people to come to Evil Resorts and pay our exorbitant price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00760" y="2066760"/>
            <a:ext cx="3333600" cy="379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5FF-3B17-4AC9-BC4C-D2A0906613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vil 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chase resorts in tropical 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Evil Weather Machine 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 weather all over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rts warm, sun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 of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wy or ra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9E9-23F3-487B-B502-123F11330E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S.P.I.E.S. can foil my 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’t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nsure that you can’t, I have built a bomb into this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ill detonate in 10 minutes, killing you all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9880" y="5029200"/>
            <a:ext cx="1368720" cy="14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C3D-837D-479C-9C83-66FEA574AC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remove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34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8:20:52Z</dcterms:created>
  <dc:creator>econwell</dc:creator>
  <dc:description/>
  <dc:language>en-US</dc:language>
  <cp:lastModifiedBy>Admin</cp:lastModifiedBy>
  <dcterms:modified xsi:type="dcterms:W3CDTF">2006-01-13T15:08:09Z</dcterms:modified>
  <cp:revision>8</cp:revision>
  <dc:subject/>
  <dc:title>Weather you like it or not! A plan for world domination</dc:title>
</cp:coreProperties>
</file>