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B72C-9DF5-43B5-A7F8-9BEFE919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52F2-C024-4902-8AD4-5A5D1542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D710-0078-452B-A3A4-AEA55919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672F-3A48-4404-BD8E-166FB3E6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069A-E2D9-46D0-9B0A-BB4617CE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4222-2696-4960-A03A-8D4FDBA0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8F75-1766-4F72-99BB-E81D748A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ED43-39C1-4910-9678-13C5AE15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D93F-1EC8-4AB7-9DC1-FBE68557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EF12-1B18-4B9C-8CA8-7D132271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9326-4FA6-4889-8806-F1A8C001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A4E-1E89-4967-907C-9463C054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-September-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Pbiz Disaster Recovery 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8969-98C1-4446-8605-2BED98DAF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nformit.mit.edu/emergency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eb.mit.edu/bcmt/PlanLib.html#admission" TargetMode="External"/><Relationship Id="rId2" Type="http://schemas.openxmlformats.org/officeDocument/2006/relationships/hyperlink" Target="http://web.mit.edu/bcmt/PlanLib.html#sis" TargetMode="External"/><Relationship Id="rId3" Type="http://schemas.openxmlformats.org/officeDocument/2006/relationships/hyperlink" Target="http://web.mit.edu/bcmt/PlanLib.html#payroll" TargetMode="External"/><Relationship Id="rId4" Type="http://schemas.openxmlformats.org/officeDocument/2006/relationships/hyperlink" Target="http://web.mit.edu/bcmt/PlanLib.html#sap" TargetMode="External"/><Relationship Id="rId5" Type="http://schemas.openxmlformats.org/officeDocument/2006/relationships/hyperlink" Target="http://web.mit.edu/bcmt/PlanLib.html#tlo" TargetMode="External"/><Relationship Id="rId6" Type="http://schemas.openxmlformats.org/officeDocument/2006/relationships/hyperlink" Target="http://web.mit.edu/bcmt/PlanLib.html#cao" TargetMode="External"/><Relationship Id="rId7" Type="http://schemas.openxmlformats.org/officeDocument/2006/relationships/hyperlink" Target="http://web.mit.edu/bcmt/PlanLib.html#w91" TargetMode="Externa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P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aster Recovery 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l Huxley – IS&amp;T Administrative Compu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-September-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ster Recovery exercise proposed for Spring of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 SAP Payroll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 EH&amp;S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and functional scope of exercise to include SAPwebSS (ITS) services, SAP-Dropbox, Check Printing, Departmental Printing and possibly other services not included in October 2004 exerci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 process changes which simplify / expedite validation of recovered SAP environ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475A-E1D8-41E1-80D7-5B700B91F1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the next couple of months Bil Huxley will be in touch with the various business offices and IT groups to pursu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 for update with each business office their specific contacts, activities and ‘operational highlights’ in the SAP FARM Team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priorities for all SAP integration points with other systems / services.  While the Core R/3 are ‘Category 1’ for disaster recovery, some integrated services may be Category 2 or hig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&amp;T, including Admin Computing, R3-Admin, Server Operations, and Computing-Help, will investigate process and technologies which might allow a shorter time line for recovery and which may facilitate off campus data backu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13EF-3220-4E0D-9EE8-C853312BBF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Pbiz Disaster Recovery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ster Recovery vs. Business Continu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Disaster Priorities &amp; Organizational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Business Continuity Management Team &amp; FARM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 Disaster Recovery relate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P Payroll to establish new recovery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P recovery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ster Recovery exercise proposed for Spring of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8A22-F621-4011-A0DF-1F566F40F0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ster Recovery vs. Business Contin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ster: a sudden calamitous event bringing great damage, loss, or destruction;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road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 sudden or great misfortune or failure &lt;Merriam-Webster's Collegiate Dictionary 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hough instances of computer crime and abuse receive extensive media attention, human error is estimated to cause greater losses in information systems operation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as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such as earthquakes, floods, and fires are the particular concer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as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cove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lanning, which is a part of a corporate business continuation plan. A contingency scheme is also necessary to cover the failure of corporate servers or telecommunications networks. &lt;Encyclopædia Britannica Article: Information systems security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AF4E-694F-4733-AFD5-D87AFD7525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T Disaster Pri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fe and Safety will take priority in the event of a disaster.  This may include the Cambridge community or other neighbors as well as students and staff “housed” by M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T’s Emergency Management Team and Emergency Operations Center (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nformit.mit.edu/emergency/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) will coordinate all activities in the event of an emergenc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and Data are irreplaceabl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day there is increased concern for preparedness to deal with larger disasters (multiple buildings) and to comprehensively assess the value of contingency planning for a much broader collection of information syst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4AA5-F0AF-418C-9E7F-92E85A5BC7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 Business Continuity Management Team &amp; FARM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ough 2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IT’s Disaster Recovery efforts were led by MIT’s BCMT (http://web.mit.edu/bcmt/) and focused on plans to deal with the loss of single buildings / office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al Area Recovery Management (FARM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s were published which dealt with about a dozen central offices / facilities including the W91 Data Center (http://web.mit.edu/bcmt/PlanLib.html).  On average these plans have been updated about every 3 yea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backups and alternate servers at on-campus sites were deemed adequate (sufficient risk mitigation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12F2-FA43-4809-9DC8-DCA309498F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 Business Continuity Management Team &amp; FARM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shman Admission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tudent Services Information Technology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ayrol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AP ERP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Technology Licensing Offic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omptroller's Accounting Offic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91-Data Cente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Financial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ra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Plan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 of Sponsored Progr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55D8-E4A1-45A1-A91A-3C5A9715EF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 Disaster Recovery related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tober 200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P E40 Recovery Simulation (Core R/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 200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P ITS Servers upgraded (Linu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rly 200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P migrated to new EMC S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200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P Integration Test for hardware renew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200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P R/3 Servers upgraded (SUN Serv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200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P WAS/NetWeaver technology instal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ly 200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P ERP FARM Plan upd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1913-6478-445A-A3EE-812759A63F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P Payroll - new recovery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ekly Non-Exempt Time Entry &amp; Payroll run in SAP have a window of about 60 hours in a non-Holiday week to deliver deposit information to the bank / Federal Reserve.  In a week with a Monday Holiday this window shrinks to about 36 ho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 Payroll processes may also have requirements which could be very challenging if a 48 hour SAP recovery were required at the least opportune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&amp;T working with the business offices and senior management would like to look at opportunities / possibilities for reducing the SAP recovery timel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796B-C176-493A-A646-10BEC90908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P recovery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services / systems are in scope?  Can we list what services / systems are out of scop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gration between various systems create concerns for defining interdependencies and functional impact if some systems are re-created at a later time or not at all (consider ECAT, IXOS or automated faxing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gration between systems also raises issues for a consistent “Point In Time” restore lest systems be out of sync in a way that impacts the functionality or the staff (consider COEUS vs. SAP or MITid vs. SAP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0CB3-9C4E-4C79-9133-D0EC7A517D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17:51:39Z</dcterms:created>
  <dc:creator>IS&amp;T</dc:creator>
  <dc:description/>
  <dc:language>en-US</dc:language>
  <cp:lastModifiedBy>IT&amp;T</cp:lastModifiedBy>
  <dcterms:modified xsi:type="dcterms:W3CDTF">2005-09-14T17:40:49Z</dcterms:modified>
  <cp:revision>26</cp:revision>
  <dc:subject/>
  <dc:title>SAPbiz Disaster Recovery Update</dc:title>
</cp:coreProperties>
</file>