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ABE-8699-4CDD-97FF-55F9A481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6D9-36BE-4D1C-832D-3FAA659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F21-B378-4F97-8654-D456168A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6216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828-44B1-4314-A274-88FDF446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519-1728-4F03-B3FB-20E8FBD2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7F8-0FD7-41B9-A5AD-36383D9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789-64FC-407B-86D1-E0455B29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A4D-80ED-43C0-93F7-8083394A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2A0-D1D8-4973-AC1F-67831E9C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DA7-A6C3-4D39-BF3E-2F1106C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6216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BC8-7358-4700-8246-EE5B9988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6216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067-96B8-465C-8516-1FF3A00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-September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Pbiz Disaster Recovery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2524-5146-4380-B610-31C329030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nformit.mit.edu/emergency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.mit.edu/bcmt/PlanLib.html#admission" TargetMode="External"/><Relationship Id="rId2" Type="http://schemas.openxmlformats.org/officeDocument/2006/relationships/hyperlink" Target="http://web.mit.edu/bcmt/PlanLib.html#sis" TargetMode="External"/><Relationship Id="rId3" Type="http://schemas.openxmlformats.org/officeDocument/2006/relationships/hyperlink" Target="http://web.mit.edu/bcmt/PlanLib.html#payroll" TargetMode="External"/><Relationship Id="rId4" Type="http://schemas.openxmlformats.org/officeDocument/2006/relationships/hyperlink" Target="http://web.mit.edu/bcmt/PlanLib.html#sap" TargetMode="External"/><Relationship Id="rId5" Type="http://schemas.openxmlformats.org/officeDocument/2006/relationships/hyperlink" Target="http://web.mit.edu/bcmt/PlanLib.html#tlo" TargetMode="External"/><Relationship Id="rId6" Type="http://schemas.openxmlformats.org/officeDocument/2006/relationships/hyperlink" Target="http://web.mit.edu/bcmt/PlanLib.html#cao" TargetMode="External"/><Relationship Id="rId7" Type="http://schemas.openxmlformats.org/officeDocument/2006/relationships/hyperlink" Target="http://web.mit.edu/bcmt/PlanLib.html#w91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aster Recovery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l Huxley – IS&amp;T Administrative Comp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-September-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Recovery exercise proposed for Spring of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SAP Payrol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EH&amp;S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d functional scope of exercise to include SAPwebSS (ITS) services, SAP-Dropbox, Check Printing, Departmental Printing and possibly other services not included in October 2004 exerc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process changes which simplify / expedite validation of recovered SAP enviro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188-7D57-4BE6-807B-02DF037BAF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the next couple of months Bil Huxley will be in touch with the various business offices and IT groups to purs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for update with each business office their specific contacts, activities and ‘operational highlights’ in the SAP FARM Team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priorities for all SAP integration points with other systems / services.  While the Core R/3 are ‘Category 1’ for disaster recovery, some integrated services may be Category 2 or hig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&amp;T, including Admin Computing, R3-Admin, Server Operations, and Computing-Help, will investigate process and technologies which might allow a shorter time line for recovery and which may facilitate off campus data backu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BED-8A94-4667-9267-889EF9573F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biz Disaster Recovery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covery vs. Business Contin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Disaster Priorities &amp; Organization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Business Continuity Management Team &amp; FARM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Disaster Recovery relate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Payroll to establish new recover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P recover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ster Recovery exercise proposed for Spring of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818-6CC1-4312-97FA-F44F9FA16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ster Recovery vs. Business Contin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ster: a sudden calamitous event bringing great damage, loss, or destruction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road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sudden or great misfortune or failure &lt;Merriam-Webster's Collegiate Dictionary 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hough instances of computer crime and abuse receive extensive media attention, human error is estimated to cause greater losses in information systems operation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s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such as earthquakes, floods, and fires are the particular concer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as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lanning, which is a part of a corporate business continuation plan. A contingency scheme is also necessary to cover the failure of corporate servers or telecommunications networks. &lt;Encyclopædia Britannica Article: Information systems securit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46E-3008-4C12-9F72-FBB3232888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T Disaster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and Safety will take priority in the event of a disaster.  This may include the Cambridge community or other neighbors as well as students and staff “housed” by M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T’s Emergency Management Team and Emergency Operations Center (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formit.mit.edu/emergency/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) will coordinate all activities in the event of an emergen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nd Data are irreplaceabl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re is increased concern for preparedness to deal with larger disasters (multiple buildings) and to comprehensively assess the value of contingency planning for a much broader collection of information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47C-A0D6-4D63-8462-166D8823E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Business Continuity Management Team &amp; FARM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IT’s Disaster Recovery efforts were led by MIT’s BCMT (http://web.mit.edu/bcmt/) and focused on plans to deal with the loss of single buildings / office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Area Recovery Management (FARM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s were published which dealt with about a dozen central offices / facilities including the W91 Data Center (http://web.mit.edu/bcmt/PlanLib.html).  On average these plans have been updated about every 3 yea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backups and alternate servers at on-campus sites were deemed adequate (sufficient risk mitigatio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A9E-BE6E-423D-8102-5A582EED8C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 Business Continuity Management Team &amp; FARM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shman Admission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udent Services Information Technolog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rol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AP ERP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echnology Licensing Off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omptroller's Accounting Off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91-Data Cent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Financial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Pla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 of Sponsored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1F1-7213-4B46-B40B-8C26985ACD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isaster Recovery relate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ber 200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E40 Recovery Simulation (Core R/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 200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ITS Servers upgraded (Linu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migrated to new EMC S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Integration Test for hardware renew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R/3 Servers upgraded (SUN Serv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WAS/NetWeaver technology insta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ly 200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P ERP FARM Plan upd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222-0A5D-4A9E-8B97-7CAA7E49B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 Payroll - new recover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ekly Non-Exempt Time Entry &amp; Payroll run in SAP have a window of about 60 hours in a non-Holiday week to deliver deposit information to the bank / Federal Reserve.  In a week with a Monday Holiday this window shrinks to about 36 ho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Payroll processes may also have requirements which could be very challenging if a 48 hour SAP recovery were required at the least opportune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&amp;T working with the business offices and senior management would like to look at opportunities / possibilities for reducing the SAP recovery time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0D6-6ABF-4EB9-A931-9BB713635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P recover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ervices / systems are in scope?  Can we list what services / systems are out of scop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between various systems create concerns for defining interdependencies and functional impact if some systems are re-created at a later time or not at all (consider ECAT, IXOS or automated faxin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 between systems also raises issues for a consistent “Point In Time” restore lest systems be out of sync in a way that impacts the functionality or the staff (consider COEUS vs. SAP or MITid vs. SA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6F2-EF00-4533-B8CB-1C291150DF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7:51:39Z</dcterms:created>
  <dc:creator>IS&amp;T</dc:creator>
  <dc:description/>
  <dc:language>en-US</dc:language>
  <cp:lastModifiedBy>IT&amp;T</cp:lastModifiedBy>
  <dcterms:modified xsi:type="dcterms:W3CDTF">2005-09-14T17:40:49Z</dcterms:modified>
  <cp:revision>26</cp:revision>
  <dc:subject/>
  <dc:title>SAPbiz Disaster Recovery Update</dc:title>
</cp:coreProperties>
</file>